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"/>
          <p:cNvSpPr/>
          <p:nvPr/>
        </p:nvSpPr>
        <p:spPr>
          <a:xfrm>
            <a:off x="7957440" y="6310440"/>
            <a:ext cx="167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EE1E-6DBC-4957-A073-50B31A9CB3E2}" type="slidenum"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0" y="632448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32680" y="6172200"/>
            <a:ext cx="14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B2A1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37240" y="6324480"/>
            <a:ext cx="199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view Personnel Evaluation System</a:t>
            </a:r>
            <a:endParaRPr b="1" lang="en-US" sz="4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Review Personnel Evaluation System</a:t>
            </a: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04920" y="1752480"/>
            <a:ext cx="3787560" cy="4892400"/>
            <a:chOff x="304920" y="1752480"/>
            <a:chExt cx="3787560" cy="4892400"/>
          </a:xfrm>
        </p:grpSpPr>
        <p:sp>
          <p:nvSpPr>
            <p:cNvPr id="49" name=""/>
            <p:cNvSpPr/>
            <p:nvPr/>
          </p:nvSpPr>
          <p:spPr>
            <a:xfrm>
              <a:off x="380880" y="1851840"/>
              <a:ext cx="3581640" cy="469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304920" y="1752480"/>
            <a:ext cx="3787560" cy="48924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752480"/>
                      <a:ext cx="3787560" cy="48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" name=""/>
          <p:cNvGrpSpPr/>
          <p:nvPr/>
        </p:nvGrpSpPr>
        <p:grpSpPr>
          <a:xfrm>
            <a:off x="2619360" y="1752480"/>
            <a:ext cx="3719520" cy="5054400"/>
            <a:chOff x="2619360" y="1752480"/>
            <a:chExt cx="3719520" cy="5054400"/>
          </a:xfrm>
        </p:grpSpPr>
        <p:sp>
          <p:nvSpPr>
            <p:cNvPr id="53" name=""/>
            <p:cNvSpPr/>
            <p:nvPr/>
          </p:nvSpPr>
          <p:spPr>
            <a:xfrm>
              <a:off x="2666880" y="1752480"/>
              <a:ext cx="3581640" cy="49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4" name=""/>
            <p:cNvGraphicFramePr/>
            <p:nvPr/>
          </p:nvGraphicFramePr>
          <p:xfrm>
            <a:off x="2619360" y="1752480"/>
            <a:ext cx="3719520" cy="505440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19360" y="1752480"/>
                      <a:ext cx="3719520" cy="50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6" name=""/>
          <p:cNvGrpSpPr/>
          <p:nvPr/>
        </p:nvGrpSpPr>
        <p:grpSpPr>
          <a:xfrm>
            <a:off x="5181480" y="1676520"/>
            <a:ext cx="3840120" cy="5054040"/>
            <a:chOff x="5181480" y="1676520"/>
            <a:chExt cx="3840120" cy="5054040"/>
          </a:xfrm>
        </p:grpSpPr>
        <p:sp>
          <p:nvSpPr>
            <p:cNvPr id="57" name=""/>
            <p:cNvSpPr/>
            <p:nvPr/>
          </p:nvSpPr>
          <p:spPr>
            <a:xfrm>
              <a:off x="5259240" y="1756440"/>
              <a:ext cx="3581280" cy="47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8" name=""/>
            <p:cNvGraphicFramePr/>
            <p:nvPr/>
          </p:nvGraphicFramePr>
          <p:xfrm>
            <a:off x="5181480" y="1676520"/>
            <a:ext cx="3840120" cy="505404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81480" y="1676520"/>
                      <a:ext cx="3840120" cy="50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" name=""/>
          <p:cNvSpPr/>
          <p:nvPr/>
        </p:nvSpPr>
        <p:spPr>
          <a:xfrm>
            <a:off x="6705720" y="64008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Action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Review Personne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Evaluation System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Conditions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iven a requirement to review personnel evaluation system and access to AR 623-105, AR 623-205, AR 672-20 and AR 690-400. 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211464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Standards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1.  Ensured Personne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Service Battal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(PSB)/administrativ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office responsibiliti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are accomplished whe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processing OERs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211464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211464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514440"/>
                <a:tab algn="l" pos="2114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14440"/>
                <a:tab algn="l" pos="2114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Standards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2.  Ensur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PSB/administrativ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office responsibiliti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are accomplished whe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processing NCOERs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51444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Standards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3.  Ensured rat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responsibilities a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accomplished whe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preparing Base Syste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Civilian Evalua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Reports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51444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51444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.  Verified evalua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reports are maintained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63244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CB2A1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0T17:06:52Z</dcterms:created>
  <dc:creator>ADG</dc:creator>
  <dc:description/>
  <dc:language>en-US</dc:language>
  <cp:lastModifiedBy>Administrator</cp:lastModifiedBy>
  <cp:lastPrinted>1998-11-03T23:43:48Z</cp:lastPrinted>
  <dcterms:modified xsi:type="dcterms:W3CDTF">2005-08-15T18:30:14Z</dcterms:modified>
  <cp:revision>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B\CCB5H105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